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B2D-6D5C-4B68-AA10-E1245AE0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EC6-79C1-4BFC-BF35-F0CB16B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4EA-A137-44B1-8C03-71D38172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269-A130-4892-AC14-4071EA5F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FDA-CCD6-4774-A1E3-9E77F232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A75-6A0D-4319-B3D1-7FBDFCA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665-3DA2-4727-89D9-C1CD011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826-E44B-4EE5-A82E-4BBD800B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083-301F-4BAA-AACD-80A5D3F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D9A-5909-4425-95E5-0AB4779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EA8-812D-4B47-88A0-F4FE1FE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387-EB18-4FAE-AA57-48BBF8E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A1A-1C79-473D-A2DE-85A6BA83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600200"/>
            <a:ext cx="2743200" cy="274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676520"/>
            <a:ext cx="2590920" cy="2590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600200"/>
            <a:ext cx="289548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676520"/>
            <a:ext cx="2743200" cy="2743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752480"/>
            <a:ext cx="2590920" cy="2590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828800"/>
            <a:ext cx="2438280" cy="2438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1905120"/>
            <a:ext cx="2286000" cy="228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1981080"/>
            <a:ext cx="2133720" cy="213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1981080" cy="1981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13372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220968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286000"/>
            <a:ext cx="1523880" cy="1523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2362320"/>
            <a:ext cx="1371600" cy="1371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438280"/>
            <a:ext cx="121932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514600"/>
            <a:ext cx="106668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25909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666880"/>
            <a:ext cx="7621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743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5909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ircle is the Largest (outsid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688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7920" y="182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52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09720" y="1523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8112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82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523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04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ne is the Lon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019160"/>
            <a:ext cx="6096240" cy="481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90468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9586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3049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hicken is the Larges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38400" y="1047600"/>
            <a:ext cx="6667200" cy="4762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336600" cy="68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336600" cy="68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228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Man is Talle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22860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81080"/>
            <a:ext cx="175248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981080"/>
            <a:ext cx="1752480" cy="1752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1752480" cy="1752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1981080"/>
            <a:ext cx="1752480" cy="1752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438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438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198108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1:52:24Z</dcterms:created>
  <dc:creator>Patrick J. Mooney</dc:creator>
  <dc:description/>
  <dc:language>en-US</dc:language>
  <cp:lastModifiedBy>Patrick J. Mooney</cp:lastModifiedBy>
  <dcterms:modified xsi:type="dcterms:W3CDTF">2011-09-20T02:37:55Z</dcterms:modified>
  <cp:revision>2</cp:revision>
  <dc:subject/>
  <dc:title>Slide 1</dc:title>
</cp:coreProperties>
</file>